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87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3886200" y="-360"/>
            <a:ext cx="2968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960480" y="739440"/>
            <a:ext cx="49356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914040" y="4689360"/>
            <a:ext cx="502596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3886200" y="9379080"/>
            <a:ext cx="29685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2A7CC3-95EA-49CC-A2FA-1187EEB4EBE5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4456C-0D17-4AC0-BDD4-44B66FA0276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52AE8F-F03E-4AC3-B40C-79B772CD49C2}" type="slidenum"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9E8DEC-78D9-4123-8AF5-38C74436DFA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14A31-B1F7-460E-B895-B033064C975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67EF19-02C3-4503-9D76-C21EAB501D3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8A2156-C64B-4AA9-A309-3BAAD478CC8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A2A81-B33B-4694-A1C1-1426A04BD38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1A4935-776F-4C97-BD5D-18F5B2CFA0B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374AD3-6D0E-4FB0-B440-1188A540882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C69E2-A809-4118-8427-12A6E768F45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C21E7F-0AF9-42E4-ABA5-87AFF097B75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47C785-CB94-4906-84FA-6024969C2B1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1C6288-2707-4639-A4E7-4D91F8404AC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75A990-9816-4507-9BFC-15B3FE7255B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1C4E6F-DF61-4F8F-8D13-8734B35152E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75B3AE-0531-4B67-A4D4-F14A40B0432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F2BEE5-0FD3-4643-85A4-7F6A9B88410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27D44F-25DD-41B9-AA4D-586390D7EEA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C97DA-852B-4A90-A73B-52B14A65B61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WenQuanYi Micro Hei"/>
              </a:rPr>
              <a:t>Imagem original 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WenQuanYi Micro Hei"/>
              </a:rPr>
              <a:t>http://www.flickr.com/photos/mlostracco/435561154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EC158D-41A1-42A0-9453-3F0EFBF730A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D9677-4DE6-4203-A548-F9EBE75B339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25A18-9FC1-434B-AB24-97355ACEE67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F70AA-A747-48C9-AF1C-E485DF2ACB5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210D43-FC73-4A4E-A6E1-CE252A1FF3A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DC0097-9522-4907-A633-F7A15E8B024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-1496880"/>
            <a:ext cx="5029200" cy="169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05-LayoutBaseadoEmTabelas.html - Layout baseado em tabelas, o que vimos até agora,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  <a:ea typeface="WenQuanYi Micro Hei"/>
              </a:rPr>
              <a:t>não é a solução idea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06-LayoutBaseadoEmParagrafos.html - Layout baseado em parágrafos (&lt;p&gt;) e quebras de linha (&lt;br&gt;);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Baseados em floa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Layout baseado em listas de definição (&lt;dl&gt;, &lt;dd&gt;, &lt;dt&gt;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Layout baseado em camadas (&lt;div&gt;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0">
              <a:lnSpc>
                <a:spcPct val="95000"/>
              </a:lnSpc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0">
              <a:lnSpc>
                <a:spcPct val="95000"/>
              </a:lnSpc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Código HTML bastante </a:t>
            </a: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limpo e acessíve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Funciona bem mesmo </a:t>
            </a: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sem CS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9900ff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Fácil leitur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 pelo usuário;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Prevê dispositivos com</a:t>
            </a: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 baixa resoluçã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 de largura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CSS Aplicado muda pouco em relação à versão anterior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Não é uma boa abordagem bom para formatações complexas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Sugere-se a colocação de separador entre os iten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fieldset p {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margin:3px 0 2px 0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border:1px solid #aaa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padding:5px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background:#ccc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}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0">
              <a:lnSpc>
                <a:spcPct val="95000"/>
              </a:lnSpc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12"/>
              </a:spcBef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00724-92FD-48EB-AFD1-2CE9B39C128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Desafio!: Renderização padrão em navegadores diferentes é sempre diferente. Botões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WenQuanYi Micro Hei"/>
              </a:rPr>
              <a:t>NUNC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vão ficar exatamente igua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Fonte: Página 173 do Beggining C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26B798-7CBF-49F5-A5B5-DB04C010624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C71738-24A4-498A-B862-DB81BEE1196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WenQuanYi Micro He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0C766-835E-4714-9AC6-661D0FC1AB5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WenQuanYi Micro He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577EC0-F144-480B-AD28-9A6AD723FB1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5D12D9-9ECA-418E-84B5-8D9004D8434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97AFC-2D93-4512-8D59-01C3BB328B8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264662-6B63-4849-9B51-70A22984749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9F6437-FC8F-4F8E-801C-B3C18C7E0CD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B619AE-3F2E-4C50-B2F9-342EA5CC769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79A60-4CD5-4AAE-B983-0BF066CE1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2A147-DF2E-4570-B0C1-196A594E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A7DB4-4DEA-4009-93E0-FF4E55CC6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1968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444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92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1968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444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BE83F-EBF0-4A30-9CBB-F988324AA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8C3D8-D0B2-4B0E-B385-DB3568D3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64D6D-C2BC-4D92-9675-2D86A593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F04F2-94B2-4FC2-8D28-21B0CDF1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3A478-AC4F-4B98-9FE8-4FA327F5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7120" y="174240"/>
            <a:ext cx="88023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B98D8-0EEC-43CE-A232-AC83978F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BFF54-D745-44D3-A96D-65CC9C7A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06CF6-0DC1-4293-9059-9E9B29C1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7E5AA-31A4-4C38-BD16-FDB98C46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59280" y="6381720"/>
            <a:ext cx="289224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ntrodução ao Desenvolvimento Para We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9280" cy="68580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964720" y="0"/>
            <a:ext cx="17928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92720" y="6669000"/>
            <a:ext cx="2130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385D55-5BA3-44F0-A42B-8031E3D22545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08000" y="666900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27/10/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html/elements-head" TargetMode="External"/><Relationship Id="rId2" Type="http://schemas.openxmlformats.org/officeDocument/2006/relationships/hyperlink" Target="http://reference.sitepoint.com/html/style" TargetMode="External"/><Relationship Id="rId3" Type="http://schemas.openxmlformats.org/officeDocument/2006/relationships/hyperlink" Target="http://reference.sitepoint.com/html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hyperlink" Target="http://reference.sitepoint.com/html/script" TargetMode="External"/><Relationship Id="rId6" Type="http://schemas.openxmlformats.org/officeDocument/2006/relationships/hyperlink" Target="http://www.referenciando.com/referencias/html-xhtml/html-tags/script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float" TargetMode="External"/><Relationship Id="rId3" Type="http://schemas.openxmlformats.org/officeDocument/2006/relationships/hyperlink" Target="http://reference.sitepoint.com/css/clear" TargetMode="External"/><Relationship Id="rId4" Type="http://schemas.openxmlformats.org/officeDocument/2006/relationships/hyperlink" Target="http://reference.sitepoint.com/css/position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width" TargetMode="External"/><Relationship Id="rId3" Type="http://schemas.openxmlformats.org/officeDocument/2006/relationships/hyperlink" Target="http://reference.sitepoint.com/css/left" TargetMode="External"/><Relationship Id="rId4" Type="http://schemas.openxmlformats.org/officeDocument/2006/relationships/hyperlink" Target="http://reference.sitepoint.com/css/right" TargetMode="External"/><Relationship Id="rId5" Type="http://schemas.openxmlformats.org/officeDocument/2006/relationships/hyperlink" Target="http://reference.sitepoint.com/css/top" TargetMode="External"/><Relationship Id="rId6" Type="http://schemas.openxmlformats.org/officeDocument/2006/relationships/hyperlink" Target="http://reference.sitepoint.com/css/bottom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runocampagnolo.com/2009li/2009/11/03/layout-de-elementos-em-css/" TargetMode="External"/><Relationship Id="rId2" Type="http://schemas.openxmlformats.org/officeDocument/2006/relationships/hyperlink" Target="http://www.brunocampagnolo.com/2009li/2009/10/27/posicionamento-de-elementos-em-css/" TargetMode="External"/><Relationship Id="rId3" Type="http://schemas.openxmlformats.org/officeDocument/2006/relationships/hyperlink" Target="http://www.brunocampagnolo.com/2009li/2009/10/27/posicionamento-de-elementos-em-css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pucpr.br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tabcorp.com.au/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htmldog.com/articles/elasticdesign/demo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csseasy.com/" TargetMode="External"/><Relationship Id="rId3" Type="http://schemas.openxmlformats.org/officeDocument/2006/relationships/hyperlink" Target="http://layouts.ironmyers.com/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lasmadesign.com.br/stupidtables/index.html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aujor.com/tutorial/layout-css-passo-a-passo.php" TargetMode="External"/><Relationship Id="rId2" Type="http://schemas.openxmlformats.org/officeDocument/2006/relationships/hyperlink" Target="http://www.tableless.com.br/propriedade-position-do-css" TargetMode="External"/><Relationship Id="rId3" Type="http://schemas.openxmlformats.org/officeDocument/2006/relationships/hyperlink" Target="http://www.pt-br.html.net/tutorials/css/lesson13.asp" TargetMode="External"/><Relationship Id="rId4" Type="http://schemas.openxmlformats.org/officeDocument/2006/relationships/hyperlink" Target="http://www.pt-br.html.net/tutorials/css/lesson14.asp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ubmarino.com.br/books_productdetails.asp?Query=ProductPage&amp;ProdTypeId=1&amp;ProdId=21323898&amp;ST=SR" TargetMode="External"/><Relationship Id="rId2" Type="http://schemas.openxmlformats.org/officeDocument/2006/relationships/hyperlink" Target="http://www.lukew.com/ff/entry.asp?680" TargetMode="External"/><Relationship Id="rId3" Type="http://schemas.openxmlformats.org/officeDocument/2006/relationships/hyperlink" Target="http://www.lukew.com/ff" TargetMode="External"/><Relationship Id="rId4" Type="http://schemas.openxmlformats.org/officeDocument/2006/relationships/hyperlink" Target="http://www.maujor.com/tutorial/formac-a.php" TargetMode="External"/><Relationship Id="rId5" Type="http://schemas.openxmlformats.org/officeDocument/2006/relationships/hyperlink" Target="http://www.maujor.com/tutorial/cssforms.php" TargetMode="External"/><Relationship Id="rId6" Type="http://schemas.openxmlformats.org/officeDocument/2006/relationships/hyperlink" Target="http://www.maujor.com/tutorial/formContato.php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cordapraweb.com/formularios-totalmente-semanticos-com-html-e-css/" TargetMode="External"/><Relationship Id="rId2" Type="http://schemas.openxmlformats.org/officeDocument/2006/relationships/hyperlink" Target="http://woork.blogspot.com/2008/06/clean-and-pure-css-form-design.html" TargetMode="External"/><Relationship Id="rId3" Type="http://schemas.openxmlformats.org/officeDocument/2006/relationships/hyperlink" Target="http://www.alistapart.com/articles/sensibleforms" TargetMode="External"/><Relationship Id="rId4" Type="http://schemas.openxmlformats.org/officeDocument/2006/relationships/hyperlink" Target="http://www.lukew.com/ff/entry.asp?504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ellstyled.com/css-nopreload-rollover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ltabooks.tempsite.ws/capitulos_amostra/00_cssbolso.pd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eferenciando.com/referencias/html-xhtml/html-tags" TargetMode="External"/><Relationship Id="rId2" Type="http://schemas.openxmlformats.org/officeDocument/2006/relationships/hyperlink" Target="http://www.referenciando.com/referencias/html-xhtml/html-tags/style" TargetMode="External"/><Relationship Id="rId3" Type="http://schemas.openxmlformats.org/officeDocument/2006/relationships/hyperlink" Target="http://www.referenciando.com/referencias/html-xhtml/html-tags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38160"/>
            <a:ext cx="7910640" cy="38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</a:rPr>
              <a:t>Laboratório de Informática</a:t>
            </a: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</a:rPr>
              <a:t>CSS</a:t>
            </a: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</a:rPr>
              <a:t>Layout em C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5029200"/>
            <a:ext cx="8101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2º Semestre 2009 &gt; PUCPR &gt; BSI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Bruno C. de Pa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760" y="3214800"/>
            <a:ext cx="7910280" cy="22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30B0FE-E8C7-4C41-9F23-E7FF48F33EC4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</a:rPr>
              <a:t>Ingl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 – 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SitePoint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&lt;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5"/>
              </a:rPr>
              <a:t>script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0" y="1600200"/>
            <a:ext cx="8831160" cy="54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determina o posicionamento de um elemento em relação ao flux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clea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controla o comportamento de um elemento em relação ao estado de float dos anteriore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position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tipo de posicionamento de um eleme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0" y="1600200"/>
            <a:ext cx="883116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width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largura de um elemento, obrigatório nos elementos com floa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distância em relação ao limite esquerdo ou direito do elemento sendo posicionad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5"/>
              </a:rPr>
              <a:t>top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bottom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distância em relação ao limite superior ou inferior do elemento sendo posicion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1F9F1C-EF13-4974-AAF7-48A2A46BB691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s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Verdana"/>
                <a:ea typeface="Arial"/>
              </a:rPr>
              <a:t>Exemplos desta aul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1"/>
              </a:rPr>
              <a:t>http://www.brunocampagnolo.com/2009li/2009/11/03/layout-de-elementos-em-cs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Verdana"/>
                <a:ea typeface="Arial"/>
              </a:rPr>
              <a:t>Exemplos da aula passad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2"/>
              </a:rPr>
              <a:t>http://www.brunocampagnolo.com/2009li/2009/10/27/posicionamento-de-elementos-em-cs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3"/>
              </a:rPr>
              <a:t>_x000b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Alguns tipos de layou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4200" y="1357200"/>
            <a:ext cx="8929800" cy="6573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Largura fixa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Líquido ou fluido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Elástico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Largura fixa variável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rgura fix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Determinado e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pixel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Redimensiona a janela,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 permanece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ntrole exat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Não prevê resolução do usuári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 de site com Largura fix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4200" y="6143760"/>
            <a:ext cx="8929800" cy="178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www.pucpr.b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85920" y="1454040"/>
            <a:ext cx="6770520" cy="45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íquido ou flui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xpande ou contrai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nforme resolução do usuári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uidad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tamanho das imagen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Deve te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rgura máxim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, pois o texto não é redimension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 de site com layout líqui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4200" y="6000840"/>
            <a:ext cx="8929800" cy="1930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www.tabcorp.com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500120" y="1571760"/>
            <a:ext cx="5892840" cy="45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lásti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xpande ou contrai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nforme resolução ou preferências do usuári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texto é redimensionado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também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Pode ter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largura máxima e míni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Resumo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Anteriormente trabalhamos com posicionamento CSS através do uso das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,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clear, position e width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O objetivo de hoje é realizar algun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studos de caso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relacionados a tipos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que podem ser implementados através destas proprie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 de site com layout elásti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4200" y="5643720"/>
            <a:ext cx="8929800" cy="2287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htmldog.com/articles/elasticdesign/demo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928960" y="857160"/>
            <a:ext cx="4468680" cy="448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rgura fixa variá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 muda automaticamente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para se adaptar à largura do navegador do usuári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Mudança n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número de coluna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, inclusiv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Geralmente construído vi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JavaScrip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Pouco usu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líquido de 2 colun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285840" y="1571760"/>
            <a:ext cx="7786800" cy="21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HTML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abecalh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onteud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lateral"&gt;&lt;/div&gt;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rodape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4200" y="3500280"/>
            <a:ext cx="7786800" cy="33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CSS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cabecalho {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conteudo { float:left; width:X%;}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lateral { float: right; width: Y%;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rodape {clear: both;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X + Y &lt; 10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85840">
              <a:lnSpc>
                <a:spcPct val="9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107040" y="1357200"/>
            <a:ext cx="303696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líquido de 3 colun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285840" y="1571760"/>
            <a:ext cx="778680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HTML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abecalh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lateral_a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lateral_b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onteud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rodape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4200" y="4071960"/>
            <a:ext cx="8429760" cy="27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CSS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cabecalho {}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lateral_a { float: left; width: X%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lateral_b {float:right;width: Y%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conteudo {margin-left:X+Z%; margin-right: Y+Z%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rodape { clear:both;}                        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X+Y+Z&lt;10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565600" y="1285920"/>
            <a:ext cx="3578400" cy="403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2920" y="857160"/>
            <a:ext cx="755820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DEZENAS</a:t>
            </a: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 de variações são possíveis apenas alterando as propriedade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width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floa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clear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margin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min-heigh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2920" y="857160"/>
            <a:ext cx="392904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Problema</a:t>
            </a: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: muitas vezes é obrigatório o uso de hacks para compatibilizar com navegadores antig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143240" y="428760"/>
            <a:ext cx="476280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Minha</a:t>
            </a: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 Recomenda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1) Deixe o problema para seu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design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resolve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2) Aproveite ou modifique algu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 pront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3) Use u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framework CS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4) Crie seu layout em u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gerador de 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s pront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Sugestões de lin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226200" y="0"/>
            <a:ext cx="2917800" cy="2643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csseasy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layouts.ironmyers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code-sucks.com/css%20layout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glish.com/cs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intensivstation.ch/en/template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643800" y="5572080"/>
            <a:ext cx="228420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Framework C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Sugestões de lin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uidado! Frameworks CS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aumentam a distância do desenvolvedor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em relação ao código CS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Não são muito flexíveis e pode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sujar o códig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Bons par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vitar hack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www.blueprintcss.org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960.g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developer.yahoo.com/yui/grid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delicious.com/bcp/css+frame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072200" y="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357880" y="214200"/>
            <a:ext cx="1785960" cy="11908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7286760" y="4429080"/>
            <a:ext cx="1562040" cy="10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Geradores de layou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Sugestões de lin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4200" y="1357200"/>
            <a:ext cx="8929800" cy="6573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developer.yahoo.com/yui/grids/builder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positioniseverything.net/articles/pie-maker/pagemaker_form.ph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700" spc="-1" strike="noStrike" u="sng">
                <a:solidFill>
                  <a:srgbClr val="7799cc"/>
                </a:solidFill>
                <a:uFillTx/>
                <a:latin typeface="Arial"/>
                <a:ea typeface="MS Gothic"/>
              </a:rPr>
              <a:t>http://builder.yaml.de/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429160" y="4998960"/>
            <a:ext cx="3714840" cy="18590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000080" y="4809960"/>
            <a:ext cx="4000680" cy="20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Resumo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9520" y="993600"/>
            <a:ext cx="8929800" cy="5572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meçaremos a entender que usa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tabelas para 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é errad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Leitura obrigatóri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Porque utilizar tabelas para layout é estupidez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2360" y="3600360"/>
            <a:ext cx="4427640" cy="3175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072040" y="3600360"/>
            <a:ext cx="338940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14200" y="0"/>
            <a:ext cx="84297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de elementos específicos – Layout de for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Técnicas de layout de formulári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Tabelas –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evita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arágrafos – 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mais compatível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Listas de definiçã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v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Desafio do layout de forms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1133640"/>
            <a:ext cx="8072280" cy="2322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290600" y="3409920"/>
            <a:ext cx="6851520" cy="34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Formulário exemp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357280" y="1415880"/>
            <a:ext cx="4950000" cy="544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4200" y="0"/>
            <a:ext cx="84297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de elementos específicos – Layout de men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Técnicas de layout de menu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ezena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Ver exempl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Geralmente se us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imagens de rollov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Quando o mouse passa sobre um elemento,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a imagem é realinhad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14200" y="0"/>
            <a:ext cx="84297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Rollo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71720" y="1785960"/>
            <a:ext cx="5081400" cy="5094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429000" y="4357800"/>
            <a:ext cx="2668680" cy="166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A6612-A28A-4B7F-8CF3-F9E7112F6DB9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0" y="1143000"/>
            <a:ext cx="8831160" cy="88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Layout CSS Passo a pass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1"/>
              </a:rPr>
              <a:t>http://maujor.com/tutorial/layout-css-passo-a-passo.ph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Propriedade position do CS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2"/>
              </a:rPr>
              <a:t>http://www.tableless.com.br/propriedade-position-do-c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Flutuando element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3"/>
              </a:rPr>
              <a:t>http://www.pt-br.html.net/tutorials/css/lesson13.as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Posicionando element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4"/>
              </a:rPr>
              <a:t>http://www.pt-br.html.net/tutorials/css/lesson14.as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022388-1266-4AC0-9042-F6B15BCDE5A6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Layout de for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0" y="1714680"/>
            <a:ext cx="8831160" cy="83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Livro: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1"/>
              </a:rPr>
              <a:t>Desenvolvendo CSS na Web - SIMON COLLIS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Livro: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2"/>
              </a:rPr>
              <a:t> Web Form Design: Best Practices 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Site: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3"/>
              </a:rPr>
              <a:t>http://www.lukew.com/ff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Construindo formulários acessívei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4"/>
              </a:rPr>
              <a:t>http://www.maujor.com/tutorial/formac-a.ph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Formulários Geral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5"/>
              </a:rPr>
              <a:t>http://www.maujor.com/tutorial/cssforms.ph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Formulários de Contat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6"/>
              </a:rPr>
              <a:t>http://www.maujor.com/tutorial/formContato.ph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543A32-7DC8-4AF1-8745-24AB69C9528B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Layout de for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920" y="1714680"/>
            <a:ext cx="8831160" cy="83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Exemplo de Formulário Semântic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1"/>
              </a:rPr>
              <a:t>http://www.acordapraweb.com/formularios-totalmente-semanticos-com-html-e-css/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Mais um exemplo de formulário semântic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2"/>
              </a:rPr>
              <a:t>http://woork.blogspot.com/2008/06/clean-and-pure-css-form-design.htm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Checklist de usabilidade em form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3"/>
              </a:rPr>
              <a:t>http://www.alistapart.com/articles/sensibleform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Artigo sobre alinhamento de formulários de cadastr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4"/>
              </a:rPr>
              <a:t>http://www.lukew.com/ff/entry.asp?504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68C692-A0CD-4112-B5C0-7279BB0D01C2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Layout de men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920" y="1714680"/>
            <a:ext cx="8831160" cy="83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Origem da técnica de rollover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1"/>
              </a:rPr>
              <a:t>http://wellstyled.com/css-nopreload-rollovers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343080">
              <a:lnSpc>
                <a:spcPct val="9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343080">
              <a:lnSpc>
                <a:spcPct val="9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7480" y="176040"/>
            <a:ext cx="8805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43240" y="1600200"/>
            <a:ext cx="4722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SS – Guia de Bols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ditora AltaBook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2008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Download de um capítul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5DD982-5F06-43A5-A52F-73A1C614E118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85840" y="1428840"/>
            <a:ext cx="3857400" cy="521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2CA6A4-7DA9-4A02-95DC-021A2F201F22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7480" y="260280"/>
            <a:ext cx="905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</a:rPr>
              <a:t>Portugu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 –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Referenciando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0" y="1600200"/>
            <a:ext cx="910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&lt;script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3T23:05:30Z</dcterms:created>
  <dc:creator>Bruno C. de Paula</dc:creator>
  <dc:description/>
  <dc:language>en-US</dc:language>
  <cp:lastModifiedBy>Bruno Campagnolo de Paula</cp:lastModifiedBy>
  <dcterms:modified xsi:type="dcterms:W3CDTF">2009-11-04T17:28:36Z</dcterms:modified>
  <cp:revision>892</cp:revision>
  <dc:subject/>
  <dc:title>Aula 01 - Curso Técnico</dc:title>
</cp:coreProperties>
</file>